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13.jpeg" ContentType="image/jpeg"/>
  <Override PartName="/ppt/media/image23.png" ContentType="image/png"/>
  <Override PartName="/ppt/media/image20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21.gif" ContentType="image/gif"/>
  <Override PartName="/ppt/media/image1.png" ContentType="image/png"/>
  <Override PartName="/ppt/media/image6.png" ContentType="image/png"/>
  <Override PartName="/ppt/media/image1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430-152C-4A71-A8B1-3163E920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B70-3A75-4CFB-B872-4A086936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5D91-E29A-4A54-B4E4-312FE384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759-D4D3-470D-BCB5-343343A7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F2C5-EFDD-4215-8482-1DFDA9AF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E839-90A3-4777-9589-92D5142B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9C40-81C2-4306-9232-29AF2C5B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DB3F-9A55-48E3-9FA7-A2B1AF03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BD77-63E8-44C1-90AD-EC20AE4B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4B42-F7F9-4491-B231-37100E1B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51D5-18C0-4942-B8D1-AB6AE38D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FD9-08EC-45A4-940B-BC63D14A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8BE5-F50E-49F3-BADE-F8E041DF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7FAF-4C4F-4047-8A5B-562AFA1E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2108-A47F-414A-A10A-3C6F2095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BFA5-228A-4D00-9998-69CE8710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FB8C-B65D-4AC6-9552-19135FA0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D3DC9-B7C5-4A11-BCD6-FDFCB161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4630C-0785-4193-973B-4347F19E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5CC48-B02D-4712-BF39-1904D700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B8F64-0C05-4475-AF73-4A647262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FBE65-9BD0-4EE3-A485-968F31CC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B245-82E7-4E04-BF8C-DB7F7831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462CC-B39E-4CB1-82AD-794C861C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D3169-AD87-4AF4-AEF2-F2E20ED8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D0035-DA35-4F22-AC36-02A179F6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83BA3-B197-4341-BCB7-F2A65A72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78BE7-20FF-41E2-91F7-C54B6AA9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11FE3-6462-4953-A7D4-D454B8E5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01E83-55E8-4C92-94EE-4D6699E6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1FF89-7F6C-4C06-9C7C-B93CBB3C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78EFF-90C2-4DC2-8103-2C7FCCDA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8F381-4700-4CCC-8248-BB560AF1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361-A89B-4096-A075-E4DF116F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17EF7-9E4F-411F-A000-45888875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D1572-4989-4254-BEA1-80C619B9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29E09-2691-467A-9E0B-262FC9DA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EBA03-50D9-4D80-9334-04929224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88F58-CB5E-44D9-AE75-073770A5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B69CA-F541-4825-96F2-5F9397DD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A6E4B-B506-4E8C-AAB8-0C3672EC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8EE02-A3EE-46AD-AA96-AD2EA48A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24A64-EA5F-4C6E-8CAF-066686A9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CCEAF-202E-40F5-822D-40BBC6B9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4FC4-F221-4747-B842-DE973F50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68D31-8B36-432E-85D1-403F4E86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AC487-E7A0-4902-B25D-AA832732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52A06-D90F-4B27-84C8-92417A3D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24EE7-F4BE-4328-9EE0-E3237534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DE753-8D5C-4632-B66C-7BE0FF20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91D80-CE22-4D06-B4AF-C5C6277F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A2D0D-6F9F-4209-AFEE-BFD0A6CA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D01CD-0AAE-460A-BFDE-6B6BDF36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1FC8E-C12E-4B76-9C56-5E456409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E0FF7-E890-4B57-8462-7F4F5220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0F9-6203-40E2-AB44-7DB15AB5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7A545-98FC-471E-9263-B6A6DE6C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92BA0-087D-43B6-8D91-B743CA8B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5D1AC-51DF-41D4-882E-CFF3F06D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888AC-4202-4E1A-989B-04D54069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5A599-679D-4942-B5A9-98B99966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A7683-C0E9-4B54-B544-F8F82D67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9A175-20B6-43CC-8BCE-237707AC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DED15-52CA-44E6-A7E5-DFBAD073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A9A13-D98A-4256-9AB9-34E86D5B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E716C-D78B-44D1-AFA1-A9DB003C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CB2-ADC3-4D64-8A66-88C1B6B1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9A6C6-157E-4921-9DB6-E8DED6DE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1F805-5BB6-4D78-B0B7-9DFD795A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44969-D278-4E9A-9CA9-FE726BC3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B3900-764F-4B32-8DDB-7C6678B7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EA936-69F9-47CF-BF05-BF48B293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E6ACD-EE39-4AFA-9BB9-C0C242A9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91296-CFEE-4E11-9E48-5CC7226C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57EBB-AF94-4427-967C-E81DD073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A35B5-3FFB-439D-867F-F43E8E24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E4B70-A43B-4D7A-853F-1E6AD058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917C-0F62-420A-8180-7763F668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07C90-1E46-4634-A8C7-3AF4E3AC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4CAEA-0E48-467B-BA1D-8A490970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21C40-6D77-44D0-8914-DEC6E9A6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3E425-2FBB-426B-B958-2D041461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0077C-25BB-4A1B-9970-5229038D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A1C73-0EF4-469C-B53B-A9A25805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670D3-DAC7-440E-ACBE-A9A6DEA4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9D913-993E-4DE2-9CED-E6C1AA74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05884-34F5-4452-832F-9F94E1A5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2C472-C258-4D91-A4A9-26A3779E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4D2-6917-4A22-A44B-711F7B22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39929-C656-46AD-AE6F-30EB1AE3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A57D7-8FDB-492D-8ED0-BE194DC7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94E7F-8205-47A0-9A1A-F9CF25EF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665FF-C6AE-4DAA-9021-A3F7AB37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AA3A0-C177-4C37-B0EA-683C87F2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0EEE8-C704-48E1-A1F4-EF833F9B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F15D0-AB4C-4098-9D69-0C03B36F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2D8C-18A0-4079-B3EE-381F005962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F2B6-D103-4B14-B445-94C3961410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08CB-3E21-48BF-91AF-47D5C78111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1DDF-4D4F-4BD6-AE10-EEAF93B1620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C435-6FD0-4753-B34A-A30E2293825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EBF5-BC69-4E16-A2DB-E772024F0E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6184-07A9-4C08-A3DB-C91D5A3328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0B4E-E534-4A32-A713-7AC19D3ECE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SCIENTIFIC REVOLUTION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y tradition, the “Scientific Revolution” refers to historical changes in thought and belief, to changes in social &amp; institutional organization, that unfolded in Europe roughly 1550-1700; beginning with Copernicus and ending with Newto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Galileo (cont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Professor of Mathematics – showed error of Aristotle’s belief that speed of fall is proportional to weight by throwing different objects off of Leaning Tower.  Kicked out of the college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Devis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lescope</a:t>
            </a: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 (sold it as tool for naval operations and made a fortune)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1613 tried to prove Copernicus right  by precise measurement not metaphysical principle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Galileo (cont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Had to stand trial at Rome (Inquisition)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resy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(anti-Christian to state earth not center of cosmos) – sentenced to life imprisonment and his work censore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6019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Galileo’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Inven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79" name="Picture 4" descr="clock - pendulum (Gal)"/>
          <p:cNvPicPr/>
          <p:nvPr/>
        </p:nvPicPr>
        <p:blipFill>
          <a:blip r:embed="rId1"/>
          <a:stretch/>
        </p:blipFill>
        <p:spPr>
          <a:xfrm>
            <a:off x="0" y="0"/>
            <a:ext cx="2014560" cy="4343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sector1 - Galeleo"/>
          <p:cNvPicPr/>
          <p:nvPr/>
        </p:nvPicPr>
        <p:blipFill>
          <a:blip r:embed="rId2"/>
          <a:stretch/>
        </p:blipFill>
        <p:spPr>
          <a:xfrm>
            <a:off x="5981760" y="0"/>
            <a:ext cx="3162240" cy="1771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thermoscope - Gal"/>
          <p:cNvPicPr/>
          <p:nvPr/>
        </p:nvPicPr>
        <p:blipFill>
          <a:blip r:embed="rId3"/>
          <a:stretch/>
        </p:blipFill>
        <p:spPr>
          <a:xfrm>
            <a:off x="1905120" y="1752480"/>
            <a:ext cx="1689120" cy="5105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3" descr="water pump - Gal"/>
          <p:cNvPicPr/>
          <p:nvPr/>
        </p:nvPicPr>
        <p:blipFill>
          <a:blip r:embed="rId4"/>
          <a:stretch/>
        </p:blipFill>
        <p:spPr>
          <a:xfrm>
            <a:off x="4114800" y="3429000"/>
            <a:ext cx="4572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181480" y="6091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Kepler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84" name="Picture 4" descr="portrait_kepler"/>
          <p:cNvPicPr/>
          <p:nvPr/>
        </p:nvPicPr>
        <p:blipFill>
          <a:blip r:embed="rId1"/>
          <a:stretch/>
        </p:blipFill>
        <p:spPr>
          <a:xfrm>
            <a:off x="334800" y="457200"/>
            <a:ext cx="4237200" cy="541008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6"/>
          <p:cNvSpPr/>
          <p:nvPr/>
        </p:nvSpPr>
        <p:spPr>
          <a:xfrm>
            <a:off x="5318280" y="1946160"/>
            <a:ext cx="3292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Planets moved 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liptical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not circular path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Developed an idea of “magnetic” force of sun pulling on planets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Isaac Newt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87" name="Picture 4" descr="newton1_med"/>
          <p:cNvPicPr/>
          <p:nvPr/>
        </p:nvPicPr>
        <p:blipFill>
          <a:blip r:embed="rId1"/>
          <a:stretch/>
        </p:blipFill>
        <p:spPr>
          <a:xfrm>
            <a:off x="5105520" y="1604880"/>
            <a:ext cx="2800080" cy="364824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6"/>
          <p:cNvSpPr/>
          <p:nvPr/>
        </p:nvSpPr>
        <p:spPr>
          <a:xfrm>
            <a:off x="365040" y="1793880"/>
            <a:ext cx="42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Invented the 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iverse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” – one set of laws, one kind of space, one kind of time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822240" y="3733920"/>
            <a:ext cx="374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tics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– light rays are refracted or bent by other substances.  Created telescope that uses mirrors rather than lenses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5244480" y="552600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Creat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ulus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One way in which the contributions of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opernicus, Galileo, and Newton are similar i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at each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(1) challenged the heliocentric theory of th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ivers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(2) based his work on Enlightenment principl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of social contrac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(3) practiced observation and experimentation i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is work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(4) supported the work of the Inquisi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vesald1"/>
          <p:cNvPicPr/>
          <p:nvPr/>
        </p:nvPicPr>
        <p:blipFill>
          <a:blip r:embed="rId1"/>
          <a:stretch/>
        </p:blipFill>
        <p:spPr>
          <a:xfrm>
            <a:off x="4800600" y="2514600"/>
            <a:ext cx="3522600" cy="35701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761760" y="20574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Innovated professor of surgery – use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issections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to study anatomy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Discovered ancient Greek Galen had made over 200 errors in his anatomical studies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-1541160" y="838080"/>
            <a:ext cx="635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Andreas Vesalius -</a:t>
            </a:r>
            <a:endParaRPr b="0" lang="en-US" sz="40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2895480" y="1295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2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533c"/>
                </a:solidFill>
                <a:latin typeface="Impact"/>
              </a:rPr>
              <a:t>Medical Science</a:t>
            </a:r>
            <a:endParaRPr b="0" lang="en-US" sz="4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William Harvey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 Black"/>
              </a:rPr>
              <a:t>Discovered blood circulates through body and heart is pump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399" name="Picture 4" descr="j0234734"/>
          <p:cNvPicPr/>
          <p:nvPr/>
        </p:nvPicPr>
        <p:blipFill>
          <a:blip r:embed="rId1"/>
          <a:stretch/>
        </p:blipFill>
        <p:spPr>
          <a:xfrm>
            <a:off x="5791320" y="1295280"/>
            <a:ext cx="2276280" cy="2276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[Illustration of Blood Circulation]"/>
          <p:cNvPicPr/>
          <p:nvPr/>
        </p:nvPicPr>
        <p:blipFill>
          <a:blip r:embed="rId2"/>
          <a:stretch/>
        </p:blipFill>
        <p:spPr>
          <a:xfrm>
            <a:off x="4886280" y="4295880"/>
            <a:ext cx="3333960" cy="16192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11"/>
          <p:cNvSpPr/>
          <p:nvPr/>
        </p:nvSpPr>
        <p:spPr>
          <a:xfrm>
            <a:off x="-1295280" y="1828800"/>
            <a:ext cx="586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Botan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04" name="Picture 7" descr="Sempervivum tectorum"/>
          <p:cNvPicPr/>
          <p:nvPr/>
        </p:nvPicPr>
        <p:blipFill>
          <a:blip r:embed="rId1"/>
          <a:stretch/>
        </p:blipFill>
        <p:spPr>
          <a:xfrm>
            <a:off x="6248520" y="1143000"/>
            <a:ext cx="1888920" cy="535320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9"/>
          <p:cNvSpPr/>
          <p:nvPr/>
        </p:nvSpPr>
        <p:spPr>
          <a:xfrm>
            <a:off x="457200" y="1523880"/>
            <a:ext cx="54864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arolus Linnaeus –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(1707-1778). Swedish botanist and explorer.</a:t>
            </a:r>
            <a:endParaRPr b="0" lang="en-US" sz="32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First to frame principles for defining genera and species of organisms.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ssified plants, animals, and even minerals.</a:t>
            </a:r>
            <a:endParaRPr b="0" lang="en-US" sz="3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 rot="20461200">
            <a:off x="914040" y="9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hemistr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407" name="Picture 11" descr="celsius_face"/>
          <p:cNvPicPr/>
          <p:nvPr/>
        </p:nvPicPr>
        <p:blipFill>
          <a:blip r:embed="rId1"/>
          <a:stretch/>
        </p:blipFill>
        <p:spPr>
          <a:xfrm>
            <a:off x="6062760" y="304920"/>
            <a:ext cx="3081240" cy="4114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airpump"/>
          <p:cNvPicPr/>
          <p:nvPr/>
        </p:nvPicPr>
        <p:blipFill>
          <a:blip r:embed="rId2"/>
          <a:stretch/>
        </p:blipFill>
        <p:spPr>
          <a:xfrm>
            <a:off x="0" y="0"/>
            <a:ext cx="3333600" cy="4762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6"/>
          <p:cNvSpPr/>
          <p:nvPr/>
        </p:nvSpPr>
        <p:spPr>
          <a:xfrm>
            <a:off x="0" y="482436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Robert Boyle’s Air Pump</a:t>
            </a:r>
            <a:endParaRPr b="0" lang="en-US" sz="28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oyle’s Law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volume of gas is inversely proportional to pressure.</a:t>
            </a:r>
            <a:endParaRPr b="0" lang="en-US" sz="28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4572000" y="5867280"/>
            <a:ext cx="43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lsius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’ Thermometer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wedish – 1701-1744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411" name="Picture 8" descr="Celsius thermometer used by Linné"/>
          <p:cNvPicPr/>
          <p:nvPr/>
        </p:nvPicPr>
        <p:blipFill>
          <a:blip r:embed="rId3"/>
          <a:stretch/>
        </p:blipFill>
        <p:spPr>
          <a:xfrm rot="1542000">
            <a:off x="3200040" y="3657240"/>
            <a:ext cx="59436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History of Scienc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Medieval Period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rolled by Church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.  Text based knowledge – mainly ancient Greek text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ommercial Revolution: rise of wealthy merchants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tron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desire more practical benefits of science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hurch weakened by Protestant Reformation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naissance Humanist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– active life morally superior to contemplative life (i.e. don’t just think it – do it!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se of Scientific Institutions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– salons, “Royal Society, Oxford”  “Academie des Sciences de Paris”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413" name="Picture 12" descr="Joseph Priestly"/>
          <p:cNvPicPr/>
          <p:nvPr/>
        </p:nvPicPr>
        <p:blipFill>
          <a:blip r:embed="rId1"/>
          <a:stretch/>
        </p:blipFill>
        <p:spPr>
          <a:xfrm>
            <a:off x="0" y="3803760"/>
            <a:ext cx="2260440" cy="3054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The Kite Experiment"/>
          <p:cNvPicPr/>
          <p:nvPr/>
        </p:nvPicPr>
        <p:blipFill>
          <a:blip r:embed="rId2"/>
          <a:stretch/>
        </p:blipFill>
        <p:spPr>
          <a:xfrm>
            <a:off x="162000" y="46080"/>
            <a:ext cx="4714920" cy="3476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bifocals"/>
          <p:cNvPicPr/>
          <p:nvPr/>
        </p:nvPicPr>
        <p:blipFill>
          <a:blip r:embed="rId3"/>
          <a:stretch/>
        </p:blipFill>
        <p:spPr>
          <a:xfrm>
            <a:off x="4572000" y="5092560"/>
            <a:ext cx="4572000" cy="1765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9" descr="datesintro"/>
          <p:cNvPicPr/>
          <p:nvPr/>
        </p:nvPicPr>
        <p:blipFill>
          <a:blip r:embed="rId4"/>
          <a:stretch/>
        </p:blipFill>
        <p:spPr>
          <a:xfrm>
            <a:off x="6095880" y="0"/>
            <a:ext cx="3048120" cy="380988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0"/>
          <p:cNvSpPr/>
          <p:nvPr/>
        </p:nvSpPr>
        <p:spPr>
          <a:xfrm>
            <a:off x="2438280" y="3886200"/>
            <a:ext cx="2374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oseph Priestle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– discovered Oxygen, carbonated beverages</a:t>
            </a:r>
            <a:endParaRPr b="0" lang="en-US" sz="28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5546880" y="3657600"/>
            <a:ext cx="359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njamin Franklin 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nature of electricity, bifocals, etc.</a:t>
            </a:r>
            <a:endParaRPr b="0" lang="en-US" sz="28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auses of Sci Revolut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testant Reformation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– opened up scientific knowledge from the control of the Catholic Church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mercial Revolution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– gave the money for invention of new scientific technology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ge of Exploration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– new need to invent telescope in order to get to new world faster – astronomy becomes the first area of scientific revolution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umanism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– new questioning spirit allowed for the drive to question previous scientific “truths”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cientific Method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ancis Baco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– England, 1561-1626, believed truth is not derived from authority but as a fruit of experiment.  (very political, found guilt of bribery, published histories and legal codes – never popular.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ne Descart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– France, 1596-1650, believed to hold no truths until he proved it true.  “I think, therefore I am” (Cogito, ergo sum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6" name="5-Point Star 1"/>
          <p:cNvSpPr/>
          <p:nvPr/>
        </p:nvSpPr>
        <p:spPr>
          <a:xfrm>
            <a:off x="4876920" y="838080"/>
            <a:ext cx="761760" cy="609840"/>
          </a:xfrm>
          <a:custGeom>
            <a:avLst/>
            <a:gdLst/>
            <a:ahLst/>
            <a:rect l="l" t="t" r="r" b="b"/>
            <a:pathLst>
              <a:path w="762000" h="609600">
                <a:moveTo>
                  <a:pt x="1" y="232846"/>
                </a:moveTo>
                <a:lnTo>
                  <a:pt x="291060" y="232848"/>
                </a:lnTo>
                <a:lnTo>
                  <a:pt x="381000" y="0"/>
                </a:lnTo>
                <a:lnTo>
                  <a:pt x="470940" y="232848"/>
                </a:lnTo>
                <a:lnTo>
                  <a:pt x="761999" y="232846"/>
                </a:lnTo>
                <a:lnTo>
                  <a:pt x="526526" y="376752"/>
                </a:lnTo>
                <a:lnTo>
                  <a:pt x="616470" y="609598"/>
                </a:lnTo>
                <a:lnTo>
                  <a:pt x="381000" y="465690"/>
                </a:lnTo>
                <a:lnTo>
                  <a:pt x="145530" y="609598"/>
                </a:lnTo>
                <a:lnTo>
                  <a:pt x="235474" y="376752"/>
                </a:lnTo>
                <a:lnTo>
                  <a:pt x="1" y="232846"/>
                </a:lnTo>
                <a:close/>
              </a:path>
            </a:pathLst>
          </a:custGeom>
          <a:solidFill>
            <a:srgbClr val="93a299"/>
          </a:solidFill>
          <a:ln w="26280">
            <a:solidFill>
              <a:srgbClr val="6b76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painting of universe and scholars"/>
          <p:cNvPicPr/>
          <p:nvPr/>
        </p:nvPicPr>
        <p:blipFill>
          <a:blip r:embed="rId1"/>
          <a:stretch/>
        </p:blipFill>
        <p:spPr>
          <a:xfrm>
            <a:off x="3581280" y="2362320"/>
            <a:ext cx="3640320" cy="32004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1"/>
          <p:cNvSpPr/>
          <p:nvPr/>
        </p:nvSpPr>
        <p:spPr>
          <a:xfrm>
            <a:off x="1295280" y="13381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udy of the Universe</a:t>
            </a:r>
            <a:endParaRPr b="0" lang="en-US" sz="3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60" name="Picture 4" descr="geocentric_cosmology"/>
          <p:cNvPicPr/>
          <p:nvPr/>
        </p:nvPicPr>
        <p:blipFill>
          <a:blip r:embed="rId1"/>
          <a:stretch/>
        </p:blipFill>
        <p:spPr>
          <a:xfrm>
            <a:off x="3657600" y="228600"/>
            <a:ext cx="5257800" cy="452916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7"/>
          <p:cNvSpPr/>
          <p:nvPr/>
        </p:nvSpPr>
        <p:spPr>
          <a:xfrm>
            <a:off x="228600" y="76212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34"/>
                </a:solidFill>
                <a:latin typeface="Arial"/>
              </a:rPr>
              <a:t>Early System –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ristotle’s </a:t>
            </a:r>
            <a:endParaRPr b="0" lang="en-US" sz="36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34"/>
                </a:solidFill>
                <a:latin typeface="Arial"/>
              </a:rPr>
              <a:t>Earth is Center “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eocentric Model</a:t>
            </a:r>
            <a:r>
              <a:rPr b="0" lang="en-US" sz="3600" spc="-1" strike="noStrike">
                <a:solidFill>
                  <a:srgbClr val="292934"/>
                </a:solidFill>
                <a:latin typeface="Arial"/>
              </a:rPr>
              <a:t>”.</a:t>
            </a:r>
            <a:endParaRPr b="0" lang="en-US" sz="36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34"/>
                </a:solidFill>
                <a:latin typeface="Arial"/>
              </a:rPr>
              <a:t>Church Approves.</a:t>
            </a:r>
            <a:endParaRPr b="0" lang="en-US" sz="36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odels of the Univers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 Black"/>
              </a:rPr>
              <a:t>Copernicu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 Black"/>
              </a:rPr>
              <a:t>Galile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 Black"/>
              </a:rPr>
              <a:t>Kepl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 Black"/>
              </a:rPr>
              <a:t>Isaac Newt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364" name="Picture 4" descr="hevelius_telescope"/>
          <p:cNvPicPr/>
          <p:nvPr/>
        </p:nvPicPr>
        <p:blipFill>
          <a:blip r:embed="rId1"/>
          <a:stretch/>
        </p:blipFill>
        <p:spPr>
          <a:xfrm>
            <a:off x="5702400" y="1981080"/>
            <a:ext cx="1701720" cy="1981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1640" y="37335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19560" y="609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pernicu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67" name="Picture 4" descr="Coppernicus_universe"/>
          <p:cNvPicPr/>
          <p:nvPr/>
        </p:nvPicPr>
        <p:blipFill>
          <a:blip r:embed="rId1"/>
          <a:stretch/>
        </p:blipFill>
        <p:spPr>
          <a:xfrm>
            <a:off x="0" y="0"/>
            <a:ext cx="59292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5867280" y="167652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(1473-1543) – Polish Astronomer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Theory – sun is at rest near center of universe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Earth spins on its axis once daily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Earth revolves sun annually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Heliocentric</a:t>
            </a: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” System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9" name="5-Point Star 1"/>
          <p:cNvSpPr/>
          <p:nvPr/>
        </p:nvSpPr>
        <p:spPr>
          <a:xfrm>
            <a:off x="7848720" y="5486400"/>
            <a:ext cx="838080" cy="838080"/>
          </a:xfrm>
          <a:custGeom>
            <a:avLst/>
            <a:gdLst/>
            <a:ahLst/>
            <a:rect l="l" t="t" r="r" b="b"/>
            <a:pathLst>
              <a:path w="838200" h="838200">
                <a:moveTo>
                  <a:pt x="1" y="320163"/>
                </a:moveTo>
                <a:lnTo>
                  <a:pt x="320166" y="320165"/>
                </a:lnTo>
                <a:lnTo>
                  <a:pt x="419100" y="0"/>
                </a:lnTo>
                <a:lnTo>
                  <a:pt x="518034" y="320165"/>
                </a:lnTo>
                <a:lnTo>
                  <a:pt x="838199" y="320163"/>
                </a:lnTo>
                <a:lnTo>
                  <a:pt x="579179" y="518034"/>
                </a:lnTo>
                <a:lnTo>
                  <a:pt x="678117" y="838198"/>
                </a:lnTo>
                <a:lnTo>
                  <a:pt x="419100" y="640323"/>
                </a:lnTo>
                <a:lnTo>
                  <a:pt x="160083" y="838198"/>
                </a:lnTo>
                <a:lnTo>
                  <a:pt x="259021" y="518034"/>
                </a:lnTo>
                <a:lnTo>
                  <a:pt x="1" y="320163"/>
                </a:lnTo>
                <a:close/>
              </a:path>
            </a:pathLst>
          </a:custGeom>
          <a:solidFill>
            <a:srgbClr val="93a299"/>
          </a:solidFill>
          <a:ln w="26280">
            <a:solidFill>
              <a:srgbClr val="6b76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Galileo Galili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71" name="Picture 9" descr="Galileo's Telescope"/>
          <p:cNvPicPr/>
          <p:nvPr/>
        </p:nvPicPr>
        <p:blipFill>
          <a:blip r:embed="rId1"/>
          <a:stretch/>
        </p:blipFill>
        <p:spPr>
          <a:xfrm>
            <a:off x="793800" y="1673280"/>
            <a:ext cx="3365280" cy="47181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Galileo Portrait"/>
          <p:cNvPicPr/>
          <p:nvPr/>
        </p:nvPicPr>
        <p:blipFill>
          <a:blip r:embed="rId2"/>
          <a:stretch/>
        </p:blipFill>
        <p:spPr>
          <a:xfrm>
            <a:off x="4925880" y="1673280"/>
            <a:ext cx="3483000" cy="471816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10"/>
          <p:cNvSpPr/>
          <p:nvPr/>
        </p:nvSpPr>
        <p:spPr>
          <a:xfrm>
            <a:off x="5241960" y="6111720"/>
            <a:ext cx="23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(1564-1642)</a:t>
            </a:r>
            <a:endParaRPr b="0" lang="en-US" sz="3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9:06:35Z</dcterms:created>
  <dc:creator>Anne Jean Lyons</dc:creator>
  <dc:description/>
  <dc:language>en-US</dc:language>
  <cp:lastModifiedBy>Windows User</cp:lastModifiedBy>
  <dcterms:modified xsi:type="dcterms:W3CDTF">2014-05-19T11:33:01Z</dcterms:modified>
  <cp:revision>26</cp:revision>
  <dc:subject/>
  <dc:title>Industrial Revolution</dc:title>
</cp:coreProperties>
</file>